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272C5-77B9-4027-B776-7774B919A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evel – fair execution of process steps and user automata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– fair access to shared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passes….if a process is in T for some time, the during this time, some other user may enter C only a number of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exclusion : similar to dijkstra. If proc I and j are in C, assume I sets flag first. After j sets flag to 1, it has to check to see if I has flag = 1, but this will happen while flag(i)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ex: means that if two things are in C, then number(i),I &lt; number(j),j and vice versa which is a contra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Proof by contradiction. Suppose all processes in T or R because progress is not guaranteed. All processes in T eventually complete so process with lowest is going to ent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out freedom: complex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writer: Process I goes from T to C…writes atleast one shared var. So if there are two process, then atleast n shared vars req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relation: s pi sprime where s and sprime are automaton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enabled: for every automaton state S and transition pi, there is exists sprime such that s pi sprime is in t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ty restrictions: Any state change not involving shared var can change state in local proces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variables: only read and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region is between try and c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 is between crit and 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is between exit and 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 is between rem and nex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formed: A try-crit-exit-rem is the prefix to many mor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ex: No reachable system state in which more than one user is in a critic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If one program is in try and none in critical then at some point someone enters C. Similarly for exit region and non 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wo are safety properties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iveness….notion of fairness in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progress….upto users also…not just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out: No guarantee that everyone will get to critic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0AE58-A9BD-46C1-825A-3CBA638F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F517-793F-4BFA-8ED1-4348737F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E2239-966B-4276-BB3A-F182FAE8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69B5-C917-4FD9-93C8-C0651519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938D-7862-4F6B-9B16-78BBFDF7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4F0C-83CE-44EB-A405-ED84F48D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C160-9C5F-4F2D-AEDF-45722DB3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635E-8DAB-4B1D-83F4-4F9E66C5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ED9F-A422-4498-A990-B91D0DD9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D3C8-10F7-42FC-BBC8-2D083E45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765F-2348-4371-96A1-6276EDF2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D936-339E-4070-98D5-041F0906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6D46-9A0D-4D42-A4EA-C5041AD4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72B6-350E-425B-B052-B326DEBE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B0AA-F3BA-41C0-BEB9-9A3230B9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AD61-49DA-4437-8FAB-2F6663B1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0C67-286D-4B4B-846A-2102FB0C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3B4D-A39C-49C2-97FC-C6A6C447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CF68-027A-4F40-BFEC-3F234691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EC1A1-1245-47D9-83B3-81D65973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D3E8-50A1-4A09-AC80-82E26A4F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4CF9-2B30-42CA-9E08-DB1AD867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FE5D-9533-416E-A2C3-EA3B23CF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FB5E-F820-457E-AD72-9FECF35B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35A6-0F73-4C35-B67C-A53F7114BF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10B7-CCA9-4E85-8927-247EFA8ED8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utual Exclus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sented by: Rohan S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tributed Algorithms Ch. 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er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ockouts or sta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s of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vel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er Conditions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out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r that reaches T eventually enter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r that reaches E eventually enters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user returns resource within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ach step is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you enter C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f(l,c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terin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you enter R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f(l,c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tering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byp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k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level eliminate on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– k processes can win at level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process can win at level n – 1, yielding mutual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85800" y="2362320"/>
                <a:ext cx="442584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(k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d / wr by all, initially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(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d by all j ≠ i / wr by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00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66680" y="1981080"/>
                <a:ext cx="5829480" cy="33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</m:t>
                        </m:r>
                        <m:r>
                          <m:t xml:space="preserve">[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ou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. Using Single Writer Shared Registers (BurnsME Algorith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if anyone else is trying to get a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claim on the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2286000"/>
                <a:ext cx="34527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ag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 by i / rd by all j ≠ I, initially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066680" y="1828800"/>
                <a:ext cx="381024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that will be cov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and 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jkstra’s Mutual Exclusio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Conditions for Mutual Exclus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out-free Mutual Exclus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Writer Shared Register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kery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after a wait-free do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wa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picks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s for everyone to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ies and enter critical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" y="2057400"/>
                <a:ext cx="3394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r>
                          <m:t xml:space="preserve">Ν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osng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 by i / rd by all j ≠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umber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 by i / rd by all j ≠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257760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5800" y="1828800"/>
                <a:ext cx="7924680" cy="42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lockout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bound on #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olve mutual exclusion with &lt;n share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writer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writer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: One at a time access to a shared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w/o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w/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ing the number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red memor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 is a kind of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kinds of actions: input, output, in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mmunication via the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 a transition relation for al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is input-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utput and internal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ty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shared variabl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of single, indivisible, non-shareable resource amo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by a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der (non-critical reg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2666880"/>
            <a:ext cx="1981080" cy="20574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02800" y="2666880"/>
            <a:ext cx="5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2895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01028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057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029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interface of a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ared memory syst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lves the mutual exclusion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the following conditions are satisf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form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two stage flag to indicate what stage of processing a user i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mutual exclusion by ensuring that only one flag at a time has a value to let it into the critical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62120" y="2311560"/>
                <a:ext cx="60195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,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/ wr by all processes, intially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by all / wr by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75248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95280" y="1752480"/>
                <a:ext cx="4876920" cy="460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 </m:t>
                        </m:r>
                        <m:r>
                          <m:t xml:space="preserve">≠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well-form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inspection of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tatu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4:22:41Z</dcterms:created>
  <dc:creator>Rohan Sen</dc:creator>
  <dc:description/>
  <dc:language>en-US</dc:language>
  <cp:lastModifiedBy>Rohan Sen</cp:lastModifiedBy>
  <dcterms:modified xsi:type="dcterms:W3CDTF">2003-09-19T18:11:57Z</dcterms:modified>
  <cp:revision>27</cp:revision>
  <dc:subject/>
  <dc:title>Mutual Exclusion</dc:title>
</cp:coreProperties>
</file>